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AF2-5519-409C-8CAD-E91C62F1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22D-362A-4A01-9BE7-F30C2E73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EB3-1125-47F4-BCFA-8DFD9FAF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D4A-6F59-4F4F-A772-5D67E654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204-BE53-46DD-B518-1B8E9808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FDA-A30D-472C-8F0E-13AB5109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E16-6C7B-4DB6-A294-B801A4FF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A19-8AAE-49B0-900A-FE3FEC1B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BFD-C3C9-44A0-B170-AE43F617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277-2F73-44B1-9F1F-DF3E3FEF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051-19CA-443E-8E91-EB236336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57C-E0D4-49A8-8109-4E04A962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E34F-9A3E-4B1F-B5A4-6643B80106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76520" y="2049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123456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148280" y="1528920"/>
            <a:ext cx="87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《大自然的语言》课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114800" y="4800600"/>
            <a:ext cx="388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-912960" y="-379440"/>
            <a:ext cx="10361880" cy="7237440"/>
            <a:chOff x="-912960" y="-379440"/>
            <a:chExt cx="10361880" cy="7237440"/>
          </a:xfrm>
        </p:grpSpPr>
        <p:pic>
          <p:nvPicPr>
            <p:cNvPr id="108" name="Picture 3" descr="春暖花开"/>
            <p:cNvPicPr/>
            <p:nvPr/>
          </p:nvPicPr>
          <p:blipFill>
            <a:blip r:embed="rId1"/>
            <a:stretch/>
          </p:blipFill>
          <p:spPr>
            <a:xfrm>
              <a:off x="-912960" y="-379440"/>
              <a:ext cx="10361880" cy="723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4"/>
            <p:cNvSpPr/>
            <p:nvPr/>
          </p:nvSpPr>
          <p:spPr>
            <a:xfrm>
              <a:off x="458280" y="1448640"/>
              <a:ext cx="8304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       </a:t>
              </a:r>
              <a:r>
                <a:rPr b="1" lang="zh-CN" sz="6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大自然永远都是用温柔、美丽的方式与人类交流吗？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WordArt 5"/>
            <p:cNvSpPr txBox="1"/>
            <p:nvPr/>
          </p:nvSpPr>
          <p:spPr>
            <a:xfrm>
              <a:off x="381960" y="229680"/>
              <a:ext cx="3744360" cy="107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拓展延伸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4170a36c-410150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NewsMedia_166733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762120" y="57913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草原沙尘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NewsMedia_166730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838080" y="58672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沙尘暴袭击西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NewsMedia_166738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914400" y="5867280"/>
            <a:ext cx="41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沙尘暴袭击京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010701_02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个人摄影壁纸- 白い風作品7 - ml0007.jpg : 1024 * 768 93.5 KB"/>
          <p:cNvPicPr/>
          <p:nvPr/>
        </p:nvPicPr>
        <p:blipFill>
          <a:blip r:embed="rId1"/>
          <a:stretch/>
        </p:blipFill>
        <p:spPr>
          <a:xfrm>
            <a:off x="-912960" y="-912960"/>
            <a:ext cx="10361880" cy="85330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3"/>
          <p:cNvSpPr txBox="1"/>
          <p:nvPr/>
        </p:nvSpPr>
        <p:spPr>
          <a:xfrm>
            <a:off x="228600" y="106668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我们应该做些什么？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5362046"/>
          <p:cNvPicPr/>
          <p:nvPr/>
        </p:nvPicPr>
        <p:blipFill>
          <a:blip r:embed="rId1"/>
          <a:stretch/>
        </p:blipFill>
        <p:spPr>
          <a:xfrm>
            <a:off x="-912960" y="-988920"/>
            <a:ext cx="10361880" cy="83804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3"/>
          <p:cNvSpPr txBox="1"/>
          <p:nvPr/>
        </p:nvSpPr>
        <p:spPr>
          <a:xfrm rot="589800">
            <a:off x="0" y="914400"/>
            <a:ext cx="495288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212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谢谢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212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R_03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"/>
          <p:cNvGrpSpPr/>
          <p:nvPr/>
        </p:nvGrpSpPr>
        <p:grpSpPr>
          <a:xfrm>
            <a:off x="0" y="0"/>
            <a:ext cx="9143280" cy="6858000"/>
            <a:chOff x="0" y="0"/>
            <a:chExt cx="9143280" cy="6858000"/>
          </a:xfrm>
        </p:grpSpPr>
        <p:grpSp>
          <p:nvGrpSpPr>
            <p:cNvPr id="47" name="Group 4"/>
            <p:cNvGrpSpPr/>
            <p:nvPr/>
          </p:nvGrpSpPr>
          <p:grpSpPr>
            <a:xfrm>
              <a:off x="0" y="0"/>
              <a:ext cx="9143280" cy="6858000"/>
              <a:chOff x="0" y="0"/>
              <a:chExt cx="9143280" cy="6858000"/>
            </a:xfrm>
          </p:grpSpPr>
          <p:grpSp>
            <p:nvGrpSpPr>
              <p:cNvPr id="48" name="Group 5"/>
              <p:cNvGrpSpPr/>
              <p:nvPr/>
            </p:nvGrpSpPr>
            <p:grpSpPr>
              <a:xfrm>
                <a:off x="6494760" y="0"/>
                <a:ext cx="2648520" cy="2286000"/>
                <a:chOff x="6494760" y="0"/>
                <a:chExt cx="2648520" cy="2286000"/>
              </a:xfrm>
            </p:grpSpPr>
            <p:pic>
              <p:nvPicPr>
                <p:cNvPr id="49" name="Picture 6" descr="杨柳依依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4760" y="0"/>
                  <a:ext cx="2648520" cy="228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" name="Text Box 7"/>
                <p:cNvSpPr/>
                <p:nvPr/>
              </p:nvSpPr>
              <p:spPr>
                <a:xfrm>
                  <a:off x="8459640" y="0"/>
                  <a:ext cx="6836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bbe0e3"/>
                      </a:solidFill>
                      <a:latin typeface="Times New Roman"/>
                      <a:ea typeface="华文行楷"/>
                    </a:rPr>
                    <a:t>春柳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Group 8"/>
              <p:cNvGrpSpPr/>
              <p:nvPr/>
            </p:nvGrpSpPr>
            <p:grpSpPr>
              <a:xfrm>
                <a:off x="5810760" y="2286000"/>
                <a:ext cx="2563200" cy="2173320"/>
                <a:chOff x="5810760" y="2286000"/>
                <a:chExt cx="2563200" cy="2173320"/>
              </a:xfrm>
            </p:grpSpPr>
            <p:pic>
              <p:nvPicPr>
                <p:cNvPr id="52" name="Picture 9" descr="p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10760" y="2286000"/>
                  <a:ext cx="2476080" cy="217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" name="Text Box 10"/>
                <p:cNvSpPr/>
                <p:nvPr/>
              </p:nvSpPr>
              <p:spPr>
                <a:xfrm>
                  <a:off x="7520400" y="2438280"/>
                  <a:ext cx="853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99ff"/>
                      </a:solidFill>
                      <a:latin typeface="Times New Roman"/>
                      <a:ea typeface="华文行楷"/>
                    </a:rPr>
                    <a:t>夏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11"/>
              <p:cNvGrpSpPr/>
              <p:nvPr/>
            </p:nvGrpSpPr>
            <p:grpSpPr>
              <a:xfrm>
                <a:off x="3418200" y="4267080"/>
                <a:ext cx="2648520" cy="2187720"/>
                <a:chOff x="3418200" y="4267080"/>
                <a:chExt cx="2648520" cy="2187720"/>
              </a:xfrm>
            </p:grpSpPr>
            <p:pic>
              <p:nvPicPr>
                <p:cNvPr id="55" name="Picture 12" descr="枫叶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18200" y="4267080"/>
                  <a:ext cx="2648520" cy="218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" name="Text Box 13"/>
                <p:cNvSpPr/>
                <p:nvPr/>
              </p:nvSpPr>
              <p:spPr>
                <a:xfrm>
                  <a:off x="5295960" y="4494240"/>
                  <a:ext cx="768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5050"/>
                      </a:solidFill>
                      <a:latin typeface="Times New Roman"/>
                      <a:ea typeface="华文行楷"/>
                    </a:rPr>
                    <a:t>秋枫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Group 14"/>
              <p:cNvGrpSpPr/>
              <p:nvPr/>
            </p:nvGrpSpPr>
            <p:grpSpPr>
              <a:xfrm>
                <a:off x="0" y="4600440"/>
                <a:ext cx="3332520" cy="2257560"/>
                <a:chOff x="0" y="4600440"/>
                <a:chExt cx="3332520" cy="2257560"/>
              </a:xfrm>
            </p:grpSpPr>
            <p:pic>
              <p:nvPicPr>
                <p:cNvPr id="58" name="Picture 15" descr="梅花 副本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4600440"/>
                  <a:ext cx="3332520" cy="225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Text Box 16"/>
                <p:cNvSpPr/>
                <p:nvPr/>
              </p:nvSpPr>
              <p:spPr>
                <a:xfrm>
                  <a:off x="2307240" y="4721040"/>
                  <a:ext cx="768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ffffff"/>
                      </a:solidFill>
                      <a:latin typeface="Times New Roman"/>
                      <a:ea typeface="华文行楷"/>
                    </a:rPr>
                    <a:t>冬梅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" name="Text Box 17"/>
            <p:cNvSpPr/>
            <p:nvPr/>
          </p:nvSpPr>
          <p:spPr>
            <a:xfrm>
              <a:off x="333360" y="1018440"/>
              <a:ext cx="6140520" cy="30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3b05c1"/>
                  </a:solidFill>
                  <a:latin typeface="Times New Roman"/>
                  <a:ea typeface="隶书"/>
                </a:rPr>
                <a:t>16.</a:t>
              </a:r>
              <a:r>
                <a:rPr b="1" lang="zh-CN" sz="6600" spc="-1" strike="noStrike">
                  <a:solidFill>
                    <a:srgbClr val="3b05c1"/>
                  </a:solidFill>
                  <a:latin typeface="Times New Roman"/>
                  <a:ea typeface="隶书"/>
                </a:rPr>
                <a:t>大自然的语言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460cba"/>
                  </a:solidFill>
                  <a:latin typeface="Times New Roman"/>
                  <a:ea typeface="隶书"/>
                </a:rPr>
                <a:t>                 </a:t>
              </a:r>
              <a:r>
                <a:rPr b="1" lang="zh-CN" sz="5400" spc="-1" strike="noStrike">
                  <a:solidFill>
                    <a:srgbClr val="460cba"/>
                  </a:solidFill>
                  <a:latin typeface="Times New Roman"/>
                  <a:ea typeface="隶书"/>
                </a:rPr>
                <a:t>竺可桢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27944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" name="Picture 4" descr="图片1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Group 5"/>
            <p:cNvGrpSpPr/>
            <p:nvPr/>
          </p:nvGrpSpPr>
          <p:grpSpPr>
            <a:xfrm>
              <a:off x="76320" y="79200"/>
              <a:ext cx="8839080" cy="5388480"/>
              <a:chOff x="76320" y="79200"/>
              <a:chExt cx="8839080" cy="5388480"/>
            </a:xfrm>
          </p:grpSpPr>
          <p:sp>
            <p:nvSpPr>
              <p:cNvPr id="65" name="Oval 6"/>
              <p:cNvSpPr/>
              <p:nvPr/>
            </p:nvSpPr>
            <p:spPr>
              <a:xfrm>
                <a:off x="1549440" y="85680"/>
                <a:ext cx="5689800" cy="1326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7"/>
              <p:cNvSpPr/>
              <p:nvPr/>
            </p:nvSpPr>
            <p:spPr>
              <a:xfrm>
                <a:off x="2449800" y="79200"/>
                <a:ext cx="4248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学习目标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8"/>
              <p:cNvSpPr/>
              <p:nvPr/>
            </p:nvSpPr>
            <p:spPr>
              <a:xfrm>
                <a:off x="76320" y="1218960"/>
                <a:ext cx="8839080" cy="42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0000"/>
                    </a:solidFill>
                    <a:latin typeface="Arial"/>
                  </a:rPr>
                  <a:t>知识与能力目标：</a:t>
                </a:r>
                <a:r>
                  <a:rPr b="1" lang="zh-CN" sz="4800" spc="-1" strike="noStrike">
                    <a:solidFill>
                      <a:srgbClr val="0000ff"/>
                    </a:solidFill>
                    <a:latin typeface="Arial"/>
                  </a:rPr>
                  <a:t>品味本文简洁，准确，生动，科学的语言．了解物候的相关知识．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0000"/>
                    </a:solidFill>
                    <a:latin typeface="Arial"/>
                  </a:rPr>
                  <a:t>过程与方法目标：</a:t>
                </a:r>
                <a:r>
                  <a:rPr b="1" lang="zh-CN" sz="4800" spc="-1" strike="noStrike">
                    <a:solidFill>
                      <a:srgbClr val="0000ff"/>
                    </a:solidFill>
                    <a:latin typeface="Arial"/>
                  </a:rPr>
                  <a:t>掌握说明文的几种说明方法和本文的说明顺序．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0000"/>
                    </a:solidFill>
                    <a:latin typeface="Arial"/>
                  </a:rPr>
                  <a:t>情感与价值目标：</a:t>
                </a:r>
                <a:r>
                  <a:rPr b="1" lang="zh-CN" sz="4800" spc="-1" strike="noStrike">
                    <a:solidFill>
                      <a:srgbClr val="0000ff"/>
                    </a:solidFill>
                    <a:latin typeface="Arial"/>
                  </a:rPr>
                  <a:t>激发学生热爱大自然，热爱科学的情趣．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图片1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2133720"/>
            <a:ext cx="86868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翩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孕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簌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销声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匿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迹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衰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草连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风雪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载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语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连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11430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比一比，看谁读得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144800" y="2362320"/>
            <a:ext cx="151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piā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495680" y="2362320"/>
            <a:ext cx="202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yùn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316640" y="2133720"/>
            <a:ext cx="1052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s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438280" y="3657600"/>
            <a:ext cx="110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n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2363040" y="487692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zà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801320" y="487692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yà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982520" y="594360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7315200" y="4876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qiá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35812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shuā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4"/>
          <p:cNvSpPr/>
          <p:nvPr/>
        </p:nvSpPr>
        <p:spPr>
          <a:xfrm>
            <a:off x="304920" y="0"/>
            <a:ext cx="830556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4547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438280" y="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课前比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0" y="0"/>
            <a:ext cx="3581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838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快速阅读课文，自主、合作解决以下问题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95280" y="5638680"/>
            <a:ext cx="75438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237492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１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什么是大自然的语言和物候学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２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物候观察对农业有什么重要意义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３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决定物候现象来临的因素有哪些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                               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４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.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研究物候学有什么意义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图片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Oval 3"/>
          <p:cNvSpPr/>
          <p:nvPr/>
        </p:nvSpPr>
        <p:spPr>
          <a:xfrm>
            <a:off x="4800600" y="0"/>
            <a:ext cx="4343400" cy="1371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410080" y="1522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6022b"/>
                </a:solidFill>
                <a:latin typeface="Times New Roman"/>
                <a:ea typeface="华文彩云"/>
              </a:rPr>
              <a:t>攻克堡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1309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第一关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什么是大自然的语言？什么是物候学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0" y="2666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第二关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物候观察对农业有什么重要意义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39625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6336"/>
                </a:solidFill>
                <a:latin typeface="Times New Roman"/>
                <a:ea typeface="隶书"/>
              </a:rPr>
              <a:t>第三关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决定物候现象来临的因素有哪些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0" y="5638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第四关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研究物候学有什么意义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410080" y="533520"/>
            <a:ext cx="304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绿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52280" y="228600"/>
            <a:ext cx="3048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220968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这四个因素运用了什么说明顺序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80880" y="228600"/>
            <a:ext cx="38862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d3153"/>
                </a:solidFill>
                <a:latin typeface="Times New Roman"/>
                <a:ea typeface="华文彩云"/>
              </a:rPr>
              <a:t>　我来说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Oval 3"/>
          <p:cNvSpPr/>
          <p:nvPr/>
        </p:nvSpPr>
        <p:spPr>
          <a:xfrm>
            <a:off x="0" y="533520"/>
            <a:ext cx="7086600" cy="838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e7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380880" y="228600"/>
            <a:ext cx="655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齐心协力夺取胜利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1828800" y="1523880"/>
            <a:ext cx="5334120" cy="15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说明方法？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80880" y="39625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举例子、列数字 、打比方、下定义、分类别、作比较、摹状貌、作诠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533520" y="0"/>
            <a:ext cx="3047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加油啊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14943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一年有四季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春夏秋冬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周而复始。每个季节都有独特的自然景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几千年来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劳动人民注意了自然现象同气候的关系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据以安排农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948320" y="533412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-方正超大字符集"/>
              </a:rPr>
              <a:t>比较改文与原文不同的表达效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Administrator</cp:lastModifiedBy>
  <dcterms:modified xsi:type="dcterms:W3CDTF">2014-09-12T09:56:2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